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Pro-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DINPro-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Pro-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5a14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Pro-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DINPro-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Pro-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DINPro-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E4AB-1AB1-4563-9C9F-C5B04045123F}" type="slidenum">
              <a:rPr b="0" lang="en-US" sz="1200" spc="-1" strike="noStrike">
                <a:solidFill>
                  <a:srgbClr val="000000"/>
                </a:solidFill>
                <a:latin typeface="DINPro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Pro-Light"/>
              </a:rPr>
              <a:t>The mixed solution has the following composition. The electrolyte contents follow the physiologic levels in the plasma, with the variable K+ and calcium content. Glucose is only added to the higher K+ and not in the 0K+ solutions.</a:t>
            </a:r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Pro-Light"/>
              </a:rPr>
              <a:t>The osmolality of the solution of the sum of all the molecules in the solution. </a:t>
            </a:r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INPro-Light"/>
              </a:rPr>
              <a:t>Note that each bag contains 32mmol of bicarbonate and 3mmol of lactate. </a:t>
            </a:r>
            <a:endParaRPr b="0" lang="en-US" sz="1200" spc="-1" strike="noStrike">
              <a:solidFill>
                <a:srgbClr val="000000"/>
              </a:solidFill>
              <a:latin typeface="DINPro-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777384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750480"/>
            <a:ext cx="777384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080" y="168732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8732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75048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080" y="375048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5048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1687320"/>
            <a:ext cx="777384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777384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046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43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687320"/>
            <a:ext cx="7773840" cy="39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77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4360" y="3750480"/>
            <a:ext cx="777384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777384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4360" y="3750480"/>
            <a:ext cx="777384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77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080" y="168732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8732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4360" y="375048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080" y="375048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750480"/>
            <a:ext cx="250308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777384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046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375048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687320"/>
            <a:ext cx="379332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750480"/>
            <a:ext cx="7773840" cy="18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35840"/>
            <a:ext cx="9145440" cy="72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5a14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687320"/>
            <a:ext cx="777384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4600">
              <a:spcBef>
                <a:spcPts val="499"/>
              </a:spcBef>
              <a:buClr>
                <a:srgbClr val="fa5a1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74600">
              <a:spcBef>
                <a:spcPts val="499"/>
              </a:spcBef>
              <a:buClr>
                <a:srgbClr val="fa5a1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182520">
              <a:spcBef>
                <a:spcPts val="499"/>
              </a:spcBef>
              <a:buClr>
                <a:srgbClr val="fa5a1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6760" indent="-182520">
              <a:spcBef>
                <a:spcPts val="499"/>
              </a:spcBef>
              <a:buClr>
                <a:srgbClr val="fa5a14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6760" indent="-182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6760" indent="-182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35840"/>
            <a:ext cx="9144000" cy="0"/>
          </a:xfrm>
          <a:prstGeom prst="line">
            <a:avLst/>
          </a:prstGeom>
          <a:ln w="28440">
            <a:solidFill>
              <a:srgbClr val="ec5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4" name=""/>
          <p:cNvSpPr/>
          <p:nvPr/>
        </p:nvSpPr>
        <p:spPr>
          <a:xfrm>
            <a:off x="4876920" y="638496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April, 2011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–</a:t>
            </a:r>
            <a:r>
              <a:rPr b="1" lang="en-US" sz="900" spc="-1" strike="noStrike">
                <a:solidFill>
                  <a:srgbClr val="ffffff"/>
                </a:solidFill>
                <a:latin typeface="CG Omega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G Omega"/>
                <a:ea typeface="ＭＳ Ｐゴシック"/>
              </a:rPr>
              <a:t>Michel Helmy</a:t>
            </a:r>
            <a:endParaRPr b="0" lang="en-US" sz="10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400800"/>
            <a:ext cx="6094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D85C-5DFD-4629-99D8-830BC45C4050}" type="slidenum">
              <a:rPr b="1" lang="en-US" sz="900" spc="-1" strike="noStrike">
                <a:solidFill>
                  <a:srgbClr val="ffffff"/>
                </a:solidFill>
                <a:latin typeface="DINPro-Light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DINPro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35840"/>
            <a:ext cx="9145440" cy="72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5a14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a5a14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35840"/>
            <a:ext cx="9144000" cy="0"/>
          </a:xfrm>
          <a:prstGeom prst="line">
            <a:avLst/>
          </a:prstGeom>
          <a:ln w="28440">
            <a:solidFill>
              <a:srgbClr val="ec5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INPro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5a14"/>
                </a:solidFill>
                <a:latin typeface="Arial"/>
              </a:rPr>
              <a:t>Gambro tirpalai (sud</a:t>
            </a:r>
            <a:r>
              <a:rPr b="1" lang="lt-LT" sz="2800" spc="-1" strike="noStrike">
                <a:solidFill>
                  <a:srgbClr val="fa5a14"/>
                </a:solidFill>
                <a:latin typeface="Arial"/>
              </a:rPr>
              <a:t>ė</a:t>
            </a:r>
            <a:r>
              <a:rPr b="1" lang="en-US" sz="2800" spc="-1" strike="noStrike">
                <a:solidFill>
                  <a:srgbClr val="fa5a14"/>
                </a:solidFill>
                <a:latin typeface="Arial"/>
              </a:rPr>
              <a:t>tis)</a:t>
            </a:r>
            <a:endParaRPr b="0" lang="en-US" sz="2800" spc="-1" strike="noStrike">
              <a:solidFill>
                <a:srgbClr val="fa5a14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706320"/>
          <a:ext cx="8683560" cy="5348520"/>
        </p:xfrm>
        <a:graphic>
          <a:graphicData uri="http://schemas.openxmlformats.org/drawingml/2006/table">
            <a:tbl>
              <a:tblPr/>
              <a:tblGrid>
                <a:gridCol w="985680"/>
                <a:gridCol w="592200"/>
                <a:gridCol w="592200"/>
                <a:gridCol w="592200"/>
                <a:gridCol w="592200"/>
                <a:gridCol w="592200"/>
                <a:gridCol w="591840"/>
                <a:gridCol w="592200"/>
                <a:gridCol w="592200"/>
                <a:gridCol w="592200"/>
                <a:gridCol w="619200"/>
                <a:gridCol w="565200"/>
                <a:gridCol w="591840"/>
                <a:gridCol w="5922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mmol/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Bicarbon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Lac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Cit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Hemosol </a:t>
                      </a: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B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rismasol</a:t>
                      </a: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rismasol </a:t>
                      </a: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hoxil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Diali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rism0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rism0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B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Lactas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Hemosol </a:t>
                      </a: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L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(Kalilactaso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Hemosol </a:t>
                      </a: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LG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(Hemolacto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rismoc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10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rismoCit </a:t>
                      </a: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4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Prismoc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e3293"/>
                          </a:solidFill>
                          <a:latin typeface="Arial"/>
                          <a:ea typeface="ＭＳ Ｐゴシック"/>
                        </a:rPr>
                        <a:t>18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CO</a:t>
                      </a:r>
                      <a:r>
                        <a:rPr b="1" i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ac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itric Ac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a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K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g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hlor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hosph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luc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3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200" spc="-1" strike="noStrike">
                          <a:solidFill>
                            <a:srgbClr val="cc0066"/>
                          </a:solidFill>
                          <a:latin typeface="Arial"/>
                          <a:ea typeface="ＭＳ Ｐゴシック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INPro-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971800" y="406440"/>
            <a:ext cx="609480" cy="965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57200"/>
            <a:ext cx="609840" cy="965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380880"/>
            <a:ext cx="609840" cy="965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DINPro-Light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304920"/>
            <a:ext cx="609480" cy="965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DINPro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6:01:16Z</dcterms:created>
  <dc:creator>.</dc:creator>
  <dc:description/>
  <dc:language>en-US</dc:language>
  <cp:lastModifiedBy>Gambro</cp:lastModifiedBy>
  <cp:lastPrinted>2008-06-16T12:41:52Z</cp:lastPrinted>
  <dcterms:modified xsi:type="dcterms:W3CDTF">2014-04-29T13:08:19Z</dcterms:modified>
  <cp:revision>1941</cp:revision>
  <dc:subject/>
  <dc:title>Bild 1</dc:title>
</cp:coreProperties>
</file>